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D075-8C9E-445D-B4FF-3F9405707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y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question sheet for Q4L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 was in denial for a while, but after Nathan’s confrontation, he felt the full weight of a heavily burdened conscience.  He could have seared his conscience, but these psalms show beyond all doubt what a contrite heart i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ight want to read and comment upon the identifying marks of godly sorrow and repentance as Paul describes it in 2 Cor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see quite a difference between Saul and David.  Saul illustrates the sorrow of the world and David illustrates godly sor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New Testament example of godly sorrow versus the sorrow of the world may be in the way Judas handled his guilt versus the way Peter handled his gui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as’ guilt led to self-destr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’s guilt led to repentance and renewal of commi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efly make note again of the features you see in this penitent expression in psal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ssing sins is not just a mere admission of guilt, but a genuinely sorrowful appeal for cleansing, reconciliation, and renewal of commi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giveness is preached now through the death and resurrection of Jes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giveness should be greatly appreciated.  It is the means of clearing the conscience without searing it or ruining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way we can overcome the accuser, Satan, in his desire to bring charges as to why we deserve Hell the same as h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l need to clear the record from time to tim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a forgiven person has to suffer consequences in this l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ddict can be forgiven, yet still have to live with the consequences of what he has done to his mind and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dulterer can be forgiven, and yet still have to live with the earthly consequences of his s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consequences to sowing to the fle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eternal consequences to searing the conscience and not getting forgiveness of s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9FAF-6ABB-42FD-81C7-8E5F55FA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1DAB-CDC6-487C-9BE4-F93754F0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CACF-9B34-45E7-B701-6F98BC9CC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C0A8-13E7-46B0-BE28-7D213F386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E662-01B2-43FE-BE1B-C0BB1EC04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585F-A7E9-4CBB-9321-8EBB13A0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AEE0-2EB7-45D0-87F1-BA164600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16AA-661A-46E2-A381-65B60745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C233-A811-4878-84B6-AC812076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34F8-D577-4126-A877-A9328C34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5641-875F-4A30-A8E4-5A9C6637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82CA-BA8B-45E3-90BA-C97B491F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759F-1B1D-432B-B81A-2E2FD5EE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A5F1-220A-4E91-B454-7035155C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DE35-609D-43DB-B0D7-D59961F8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F896-E553-4E7E-BD44-BF1F9CB8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AB7E-39DB-4444-8A66-E5A76979F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6710-4726-4C02-A3A8-1EFB7B84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B0AE-6342-475D-AD09-71995745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F836-978E-4DDD-A2AA-9BED0FD6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1A83-C8E3-452E-8EE7-7745F15C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D81E-CA9E-487A-A3A2-5D7276C1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4DBF-F818-47FA-B867-9555A5B2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5FF0-BBD3-4EED-8492-54283D37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B042-354C-47C9-A676-3BE1D4E3A36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7F18-F64E-47F9-BC43-4D002BEF671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Give Us A King</a:t>
            </a:r>
            <a:br>
              <a:rPr sz="5400"/>
            </a:b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United Kingdom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ter 4, Lesson 2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salm 6,38,51,3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Pg.77-8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salms Reflecting Godly Sorrow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ay a righteous man feels after he has sinn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d Saul ever feel this wa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esn’t this show that David is still indeed a “man after God’s own heart”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broken and contrite heart is what God wanted and what David offe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salm 6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ayer of one who lies awake in grief because of s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drenches his couch with tears – 6,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knows his enemies, especially Satan, is proud to have an accusation against h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knows that with God’s grace and mercy he will be able to overcome even th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salm 38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feels God’s arrows deeply in his heart -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knows God’s wrath is against his sin -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is burdened with his iniquities –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knows his actions to have been utter “foolishness” -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oes David’s heart contrast with the heart of Sau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salm 51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earnest prayer for forgive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ly sorrow is mostly sorrowful for the way one has hurt and disappointed G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ldy sorrow is mostly concerned about self, getting caught, or hurting peo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 shows what it means to “confess” your sins (1 Jno.1:7f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clean heart and a clean slate is found in God’s forgive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salm 32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salm of praise for God’s forgive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giveness of sins is a tremendous bless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all need it from time to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the core need of man that is fully addressed and satisfied in the gosp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nsequences of David’s Si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word would never depart from his ho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ouble would arise within his own fami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ould feel the pain of someone violating his w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el the pain in the loss of his chi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reap what we s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one gets away with s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giveness is wonderful when we truly repent of si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, we cannot erase the consequences that often comes in this life even when the conscience is cleared before G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00:33:22Z</dcterms:created>
  <dc:creator>Terry W. Benton</dc:creator>
  <dc:description/>
  <dc:language>en-US</dc:language>
  <cp:lastModifiedBy>Terry W. Benton</cp:lastModifiedBy>
  <dcterms:modified xsi:type="dcterms:W3CDTF">2005-06-21T02:56:48Z</dcterms:modified>
  <cp:revision>3</cp:revision>
  <dc:subject/>
  <dc:title>Give Us A King The United Kingdom</dc:title>
</cp:coreProperties>
</file>